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130-C269-4801-A2EB-710282ED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358-4C67-441F-9BE6-317CE255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B86-D26F-4B9B-ACDF-C3DC8812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D1D-3FFD-4224-9347-BDFD98AC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4CE5-B059-4673-A171-4CBF3043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B0C0-D573-4B9D-9EDD-D618AF61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401-AC32-44B0-927C-B63D7990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8A3-23BD-4197-B1BF-FC57E19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BF81-9182-42FB-8034-5001ACC5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9D7-83F2-46B7-A5C3-2D5EB7B3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CD42-6612-49EB-9CCA-2893132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77F-E091-4DA0-BCDD-15F265A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A9D2-C27B-4F68-8976-6D44782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5C00-04B5-43E9-A12E-41952C4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9D4D-4C44-4017-8DF3-5B5F0173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95A-E439-4E51-BBF1-529C833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390-99CD-4F5D-80C0-33FEB27D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C6C-158D-499E-96C7-7E6D66F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511-778A-46CB-B904-A76B99C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D24-02ED-4B08-A510-B7F37D0F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D5F-0AE7-4720-95BD-80AD4FC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D8E-805B-4BF2-A162-0DCEA4C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05A-F627-47EF-8D76-F8DA813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21-6B17-4AB1-8D1E-20F9515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E0A3-25EC-4BA6-A798-5CA3E3DD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153-7B97-41BB-8EA0-4BED765C8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he First W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Articl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e First Paragraph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aragraph 1 : The Maldive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come to the Maldives ( the smallest of Asian countries ) to scuba dive, surf, fish, and cruise in picturesque atolls known for white sandy beaches .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crystal-clear turquoise waters waters and coral reefs teeming with tropical fish of rainbow colors.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2920" y="5538960"/>
            <a:ext cx="1981080" cy="131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81960" y="1371600"/>
            <a:ext cx="1562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5:01:51Z</dcterms:created>
  <dc:creator>PA Department of Education</dc:creator>
  <dc:description/>
  <dc:language>en-US</dc:language>
  <cp:lastModifiedBy>PA Department of Education</cp:lastModifiedBy>
  <dcterms:modified xsi:type="dcterms:W3CDTF">2009-05-21T15:20:29Z</dcterms:modified>
  <cp:revision>1</cp:revision>
  <dc:subject/>
  <dc:title>The First Wave  Article</dc:title>
</cp:coreProperties>
</file>